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3D7C6-0626-4435-A69F-CE7ACCF16A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9F26D-F766-4CFC-9F6F-3F6872DE64F4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B0623-54D5-4BBF-A933-D72E6053CB64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D7A5F-C1B2-4A86-9B38-DFE308BC32DE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80018-245C-49FD-9DCC-BFD3D4303454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F5406-2E6E-4F61-B091-3FEF692857F0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44D5D-3B49-4884-8FF6-AD6939A8FEB1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5A2A8-7995-4321-B6C3-848A6B8D2406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B529A-9D18-42E3-BA40-DE323B8401F8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6AC80-8BB2-463F-9A35-617B052B0BC4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C49F0-0CB3-4122-A7FB-86F8204A8459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C6536-5E1F-4F1C-BB1C-8E2FF1E4643E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9A4FB-797E-4020-803B-49ECBABF8664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A90CC-FA69-4572-8D4D-8190CB534D09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80E0F-E7D4-4616-A85B-5AC06F2786CF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D3446-15C3-4D3F-A19F-B641A111FC5F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0FF1E-9CF3-4C55-B900-1401B5974AE7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E354F-7111-4C29-AD92-6DBE48846260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E55CC-C450-4D2E-9D18-D4FE7DDEA50F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2F142-9437-48E9-AE99-186F05263E75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A9463-2942-4EFF-8CCF-91A2CBF0AC6A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875F4-3B48-489F-93E3-547F7731976A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C5923-C1A5-4F47-BD40-BEAE23D20FD2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530F8-D331-4D82-BB28-F897DF031F79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3786F-0AC3-4ACB-850C-02DD20AAD20B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B0F9F-D113-43AD-9D46-6950E5D08E68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889B9-F531-44F4-A629-57060ABADCB3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8ED2C-7675-4A1C-B198-30179F0C6274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6B154-401D-4832-8FD3-2EE089DA1BE8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D7856-5336-4B48-835F-74F11A26BEBE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FB7A8-CBB9-4D58-90FA-F023793DF26A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BE74A-D2AE-47A6-907F-F86AE44BEE15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01DD6-20AC-4DB6-91EC-C217E1170A0C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99F60-9C12-4C76-8CB0-74239D807586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80943-6153-48AB-8195-D63B969D2CFC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948F4-64F5-47AA-80EC-A83427FA77A5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99245-F2FB-4275-A3D0-ED0A4B2087A4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A8040-4E4C-47BF-B081-E0E9EDC03DC6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0C64F-0A20-4127-8B7A-9BDFB5B6E600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0C45C-98F2-44F0-BDF6-12A75E50E959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1469-639B-48A4-9725-7B6D2838D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9CFB-542A-45F6-8584-6D61D08E1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4311-A696-48FD-AD91-A8FE9760A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7A51-6DAE-41C2-B3CF-45F32FD0E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30E36-464C-479A-B9B0-37B7F14F1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E1238-623E-4B8A-BEF8-9D015CA76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2F51E-BB15-47A7-9B5B-DFBF4B6B5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F0188-1B38-4946-9DA7-5A0C720AE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8B14E-6099-46C9-8D96-105AF6744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99462-8F08-40F7-9F5F-AFF8051C4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6F90E-F761-4A0C-8EEF-9CBE3EA4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6A19-58A4-4B64-B3FD-1A750AF6E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20F24-86AE-45F5-B02F-6D8F8599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4C52F-A3A0-48DE-A5BF-65A2300C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C1734-FB78-43A6-A015-7A0FFE693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383B9-2FFE-4515-8F6B-07C7F415B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6EE4B-4902-4C85-BE72-8EA60DC68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E70A-C8E8-4E27-8E1E-A96703C84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6508-6157-4963-9407-9E935A5F2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5F23-86D8-44F7-8B68-9014E84FE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99AF-6D96-4496-B242-6AA47B2EC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D652-2028-411E-A1D5-C4B3E3B7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F3CC-2101-4A07-84B2-A82A02E0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6842-106B-4E8E-8C09-8B8C8F6E9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D1C8C-B073-4611-A475-70A17E97AF5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5E014-3A3D-45A5-9D59-14B858D1F51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Using Wikis in Educ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724280" y="2666520"/>
            <a:ext cx="4013280" cy="388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66"/>
                </a:solidFill>
                <a:latin typeface="Arial"/>
              </a:rPr>
              <a:t>Caroline County Educational Technology Workshop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66"/>
                </a:solidFill>
                <a:latin typeface="Arial"/>
              </a:rPr>
              <a:t>August 1, 201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66"/>
                </a:solidFill>
                <a:latin typeface="Arial"/>
              </a:rPr>
              <a:t>http://carolinecountytechnology.wikispaces.com/</a:t>
            </a:r>
            <a:r>
              <a:rPr b="0" i="1" lang="en-US" sz="2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ign In To Wikispac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5849640" cy="43876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130" name="Text Box 5"/>
          <p:cNvSpPr/>
          <p:nvPr/>
        </p:nvSpPr>
        <p:spPr>
          <a:xfrm>
            <a:off x="4495680" y="2971800"/>
            <a:ext cx="297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Use the user name and password you created or were assigne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Editing Pag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How to create your unique si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Edit This Pag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34" name="Group 6"/>
          <p:cNvGrpSpPr/>
          <p:nvPr/>
        </p:nvGrpSpPr>
        <p:grpSpPr>
          <a:xfrm>
            <a:off x="1676520" y="2394000"/>
            <a:ext cx="7162560" cy="4387680"/>
            <a:chOff x="1676520" y="2394000"/>
            <a:chExt cx="7162560" cy="4387680"/>
          </a:xfrm>
        </p:grpSpPr>
        <p:pic>
          <p:nvPicPr>
            <p:cNvPr id="135" name="Picture 3" descr=""/>
            <p:cNvPicPr/>
            <p:nvPr/>
          </p:nvPicPr>
          <p:blipFill>
            <a:blip r:embed="rId1"/>
            <a:stretch/>
          </p:blipFill>
          <p:spPr>
            <a:xfrm>
              <a:off x="1676520" y="2394000"/>
              <a:ext cx="5849640" cy="4387680"/>
            </a:xfrm>
            <a:prstGeom prst="rect">
              <a:avLst/>
            </a:prstGeom>
            <a:ln w="9360">
              <a:solidFill>
                <a:srgbClr val="003366"/>
              </a:solidFill>
              <a:miter/>
            </a:ln>
          </p:spPr>
        </p:pic>
        <p:sp>
          <p:nvSpPr>
            <p:cNvPr id="136" name="AutoShape 4"/>
            <p:cNvSpPr/>
            <p:nvPr/>
          </p:nvSpPr>
          <p:spPr>
            <a:xfrm>
              <a:off x="7391520" y="2743200"/>
              <a:ext cx="1447560" cy="762120"/>
            </a:xfrm>
            <a:prstGeom prst="leftArrow">
              <a:avLst>
                <a:gd name="adj1" fmla="val 50000"/>
                <a:gd name="adj2" fmla="val 47485"/>
              </a:avLst>
            </a:prstGeom>
            <a:solidFill>
              <a:srgbClr val="ff6600"/>
            </a:solidFill>
            <a:ln w="57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Editing Toolbar Will Appea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934920" y="2514600"/>
            <a:ext cx="8132760" cy="368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asic Editing Func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3732120"/>
            <a:ext cx="3773520" cy="23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ol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taliciz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nderlin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ext Color, Alignment, &amp; Shad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nt Siz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757760" y="3655800"/>
            <a:ext cx="3773520" cy="24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umbered Li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25160" indent="-4251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ulleted Li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25160" indent="-4251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sert Horizontal Lin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25160" indent="-4251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sert Hyperlink (URL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25160" indent="-4251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move Hyperlink (URL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42" name="Group 9"/>
          <p:cNvGrpSpPr/>
          <p:nvPr/>
        </p:nvGrpSpPr>
        <p:grpSpPr>
          <a:xfrm>
            <a:off x="1371600" y="2362320"/>
            <a:ext cx="6019920" cy="1587240"/>
            <a:chOff x="1371600" y="2362320"/>
            <a:chExt cx="6019920" cy="1587240"/>
          </a:xfrm>
        </p:grpSpPr>
        <p:pic>
          <p:nvPicPr>
            <p:cNvPr id="143" name="Picture 7" descr=""/>
            <p:cNvPicPr/>
            <p:nvPr/>
          </p:nvPicPr>
          <p:blipFill>
            <a:blip r:embed="rId1"/>
            <a:stretch/>
          </p:blipFill>
          <p:spPr>
            <a:xfrm>
              <a:off x="1371600" y="2362320"/>
              <a:ext cx="5943600" cy="8110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44" name="Text Box 8"/>
            <p:cNvSpPr/>
            <p:nvPr/>
          </p:nvSpPr>
          <p:spPr>
            <a:xfrm>
              <a:off x="1447920" y="3124080"/>
              <a:ext cx="5943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3366"/>
                  </a:solidFill>
                  <a:latin typeface="Arial"/>
                </a:rPr>
                <a:t>1   2    3   4          5            6    7    8   9  10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Editing Func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914040" y="3809880"/>
            <a:ext cx="80010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sert images and fi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mbed widge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sert tab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sert special charact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sert co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47" name="Group 6"/>
          <p:cNvGrpSpPr/>
          <p:nvPr/>
        </p:nvGrpSpPr>
        <p:grpSpPr>
          <a:xfrm>
            <a:off x="3352680" y="2362320"/>
            <a:ext cx="2362320" cy="1297800"/>
            <a:chOff x="3352680" y="2362320"/>
            <a:chExt cx="2362320" cy="1297800"/>
          </a:xfrm>
        </p:grpSpPr>
        <p:pic>
          <p:nvPicPr>
            <p:cNvPr id="148" name="Picture 4" descr=""/>
            <p:cNvPicPr/>
            <p:nvPr/>
          </p:nvPicPr>
          <p:blipFill>
            <a:blip r:embed="rId1"/>
            <a:stretch/>
          </p:blipFill>
          <p:spPr>
            <a:xfrm>
              <a:off x="3352680" y="2362320"/>
              <a:ext cx="2362320" cy="8046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49" name="Text Box 5"/>
            <p:cNvSpPr/>
            <p:nvPr/>
          </p:nvSpPr>
          <p:spPr>
            <a:xfrm>
              <a:off x="3352680" y="320040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Arial"/>
                </a:rPr>
                <a:t>1    2    3   4    5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740160" y="892440"/>
            <a:ext cx="8120880" cy="74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nserting Images and Document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574800" y="1981080"/>
            <a:ext cx="5568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27036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974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Follow detailed instructions here: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974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http://help.wikispaces.com/Editing+a+Page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974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974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Or watch the video embedded (also linked from this icon below)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974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☼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3" name="edit a wiki files.mp4" descr=""/>
          <p:cNvPicPr/>
          <p:nvPr/>
        </p:nvPicPr>
        <p:blipFill>
          <a:blip r:embed="rId1"/>
          <a:stretch/>
        </p:blipFill>
        <p:spPr>
          <a:xfrm>
            <a:off x="3581280" y="1981080"/>
            <a:ext cx="55627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762120" y="2362320"/>
            <a:ext cx="4800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Click on the Embed Widget icon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Select the icon that corresponds to the widget type you are inserting.  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If you cannot find an appropriate icon, select Other HTML.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Paste the Embed HTML code from your widget into the text field and click Save. (</a:t>
            </a:r>
            <a:r>
              <a:rPr b="0" i="1" lang="en-US" sz="2300" spc="-1" strike="noStrike">
                <a:solidFill>
                  <a:srgbClr val="003366"/>
                </a:solidFill>
                <a:latin typeface="Arial"/>
              </a:rPr>
              <a:t>see next slide for image</a:t>
            </a: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serting Dynamic HTML - Widge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56" name="Object 3"/>
          <p:cNvGraphicFramePr/>
          <p:nvPr/>
        </p:nvGraphicFramePr>
        <p:xfrm>
          <a:off x="5562720" y="2362320"/>
          <a:ext cx="533160" cy="41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2362320"/>
                    <a:ext cx="533160" cy="417240"/>
                  </a:xfrm>
                  <a:prstGeom prst="rect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58" name="Picture 8" descr=""/>
          <p:cNvPicPr/>
          <p:nvPr/>
        </p:nvPicPr>
        <p:blipFill>
          <a:blip r:embed="rId3"/>
          <a:stretch/>
        </p:blipFill>
        <p:spPr>
          <a:xfrm>
            <a:off x="5438880" y="2971800"/>
            <a:ext cx="3628800" cy="2630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serting Tab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50547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on the table ic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lect the number of rows and colum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Insert Tab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4876920" y="2368440"/>
            <a:ext cx="738000" cy="603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"/>
          <p:cNvPicPr/>
          <p:nvPr/>
        </p:nvPicPr>
        <p:blipFill>
          <a:blip r:embed="rId2">
            <a:lum contrast="-2000"/>
          </a:blip>
          <a:stretch/>
        </p:blipFill>
        <p:spPr>
          <a:xfrm>
            <a:off x="6291360" y="2362320"/>
            <a:ext cx="2776320" cy="2360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rmatting Tab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911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ing on any cell in the table will open the formatting men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dividual cells, rows, columns, and the entire table can be formatt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5" name="Picture 5" descr=""/>
          <p:cNvPicPr/>
          <p:nvPr/>
        </p:nvPicPr>
        <p:blipFill>
          <a:blip r:embed="rId1"/>
          <a:stretch/>
        </p:blipFill>
        <p:spPr>
          <a:xfrm>
            <a:off x="6095880" y="2467080"/>
            <a:ext cx="2971800" cy="2409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ikis are part of the Social Media Revolution, are you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62120" y="57913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ocial Media Revolution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1752480" y="2590920"/>
            <a:ext cx="571500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ding a Table of Conte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sert a widget at the start of your page (note: you can do this well after creating the pag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lect Table of contents from the Widget men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html code will pull all text designated as Heading will display in outline form in a Table of Contents displayed in the upper right of the page.  The contents are hyperlinks to that section of the pag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able of Conte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eading 1 text will be left most justified, Heading 2 will be slightly indented, and Heading 3 will be slightly more indented, etc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70" name="Object 4"/>
          <p:cNvGraphicFramePr/>
          <p:nvPr/>
        </p:nvGraphicFramePr>
        <p:xfrm>
          <a:off x="1981080" y="3657600"/>
          <a:ext cx="556272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657600"/>
                    <a:ext cx="5562720" cy="30481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Navigation Men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diting Your Navigation Men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63738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n the left side of your wiki, you have a navigation menu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Your navigation menu will appear on all pages of your wiki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Your navigation menu should include links to all the pages of you wiki and can include links to outside resourc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o edit your menu, click on the Edit Navigation link that is located at the bottom of your menu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76" name="Object 1024"/>
          <p:cNvGraphicFramePr/>
          <p:nvPr/>
        </p:nvGraphicFramePr>
        <p:xfrm>
          <a:off x="7920000" y="0"/>
          <a:ext cx="113364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0" y="0"/>
                    <a:ext cx="11336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Rectangle 6"/>
          <p:cNvSpPr/>
          <p:nvPr/>
        </p:nvSpPr>
        <p:spPr>
          <a:xfrm>
            <a:off x="8153280" y="6553080"/>
            <a:ext cx="685800" cy="228600"/>
          </a:xfrm>
          <a:prstGeom prst="rect">
            <a:avLst/>
          </a:prstGeom>
          <a:noFill/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Line 10"/>
          <p:cNvSpPr/>
          <p:nvPr/>
        </p:nvSpPr>
        <p:spPr>
          <a:xfrm>
            <a:off x="3200400" y="5791320"/>
            <a:ext cx="4876920" cy="838080"/>
          </a:xfrm>
          <a:prstGeom prst="line">
            <a:avLst/>
          </a:prstGeom>
          <a:ln w="572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diting Your Navigation Men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en you click Edit Navigation, the space menu will open for editing just like any other page of your wiki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editing toolbar will appear – allowing you to add text, hyperlinks, images, and widgets just as you can for all wiki pag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diting Your Navigation Men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3" name="Picture 3" descr=""/>
          <p:cNvPicPr/>
          <p:nvPr/>
        </p:nvPicPr>
        <p:blipFill>
          <a:blip r:embed="rId1"/>
          <a:stretch/>
        </p:blipFill>
        <p:spPr>
          <a:xfrm>
            <a:off x="1447920" y="2409840"/>
            <a:ext cx="6629400" cy="41432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Discussion Boar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Reading, Creating, and Replying to Discussion Topic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pen the Discussion Tab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87" name="Group 5"/>
          <p:cNvGrpSpPr/>
          <p:nvPr/>
        </p:nvGrpSpPr>
        <p:grpSpPr>
          <a:xfrm>
            <a:off x="1676520" y="2362320"/>
            <a:ext cx="5849640" cy="4387680"/>
            <a:chOff x="1676520" y="2362320"/>
            <a:chExt cx="5849640" cy="4387680"/>
          </a:xfrm>
        </p:grpSpPr>
        <p:pic>
          <p:nvPicPr>
            <p:cNvPr id="188" name="Picture 3" descr=""/>
            <p:cNvPicPr/>
            <p:nvPr/>
          </p:nvPicPr>
          <p:blipFill>
            <a:blip r:embed="rId1"/>
            <a:stretch/>
          </p:blipFill>
          <p:spPr>
            <a:xfrm>
              <a:off x="1676520" y="2362320"/>
              <a:ext cx="5849640" cy="4387680"/>
            </a:xfrm>
            <a:prstGeom prst="rect">
              <a:avLst/>
            </a:prstGeom>
            <a:ln w="9360">
              <a:solidFill>
                <a:srgbClr val="003366"/>
              </a:solidFill>
              <a:miter/>
            </a:ln>
          </p:spPr>
        </p:pic>
        <p:sp>
          <p:nvSpPr>
            <p:cNvPr id="189" name="AutoShape 4"/>
            <p:cNvSpPr/>
            <p:nvPr/>
          </p:nvSpPr>
          <p:spPr>
            <a:xfrm flipV="1" rot="5400000">
              <a:off x="3009600" y="3314520"/>
              <a:ext cx="1447920" cy="762120"/>
            </a:xfrm>
            <a:prstGeom prst="leftArrow">
              <a:avLst>
                <a:gd name="adj1" fmla="val 50000"/>
                <a:gd name="adj2" fmla="val 47496"/>
              </a:avLst>
            </a:prstGeom>
            <a:solidFill>
              <a:srgbClr val="ff6600"/>
            </a:solidFill>
            <a:ln w="57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reating Discussion Topic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91" name="Group 5"/>
          <p:cNvGrpSpPr/>
          <p:nvPr/>
        </p:nvGrpSpPr>
        <p:grpSpPr>
          <a:xfrm>
            <a:off x="1828800" y="2394000"/>
            <a:ext cx="6095880" cy="4387680"/>
            <a:chOff x="1828800" y="2394000"/>
            <a:chExt cx="6095880" cy="4387680"/>
          </a:xfrm>
        </p:grpSpPr>
        <p:pic>
          <p:nvPicPr>
            <p:cNvPr id="192" name="Picture 3" descr=""/>
            <p:cNvPicPr/>
            <p:nvPr/>
          </p:nvPicPr>
          <p:blipFill>
            <a:blip r:embed="rId1"/>
            <a:stretch/>
          </p:blipFill>
          <p:spPr>
            <a:xfrm>
              <a:off x="1828800" y="2394000"/>
              <a:ext cx="5850000" cy="4387680"/>
            </a:xfrm>
            <a:prstGeom prst="rect">
              <a:avLst/>
            </a:prstGeom>
            <a:ln w="9360">
              <a:solidFill>
                <a:srgbClr val="003366"/>
              </a:solidFill>
              <a:miter/>
            </a:ln>
          </p:spPr>
        </p:pic>
        <p:sp>
          <p:nvSpPr>
            <p:cNvPr id="193" name="AutoShape 4"/>
            <p:cNvSpPr/>
            <p:nvPr/>
          </p:nvSpPr>
          <p:spPr>
            <a:xfrm>
              <a:off x="6477120" y="4572000"/>
              <a:ext cx="1447560" cy="762120"/>
            </a:xfrm>
            <a:prstGeom prst="leftArrow">
              <a:avLst>
                <a:gd name="adj1" fmla="val 50000"/>
                <a:gd name="adj2" fmla="val 47485"/>
              </a:avLst>
            </a:prstGeom>
            <a:solidFill>
              <a:srgbClr val="ff6600"/>
            </a:solidFill>
            <a:ln w="57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on a Topic to Open I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95" name="Group 5"/>
          <p:cNvGrpSpPr/>
          <p:nvPr/>
        </p:nvGrpSpPr>
        <p:grpSpPr>
          <a:xfrm>
            <a:off x="990360" y="2394000"/>
            <a:ext cx="6383520" cy="4387680"/>
            <a:chOff x="990360" y="2394000"/>
            <a:chExt cx="6383520" cy="4387680"/>
          </a:xfrm>
        </p:grpSpPr>
        <p:pic>
          <p:nvPicPr>
            <p:cNvPr id="196" name="Picture 4" descr=""/>
            <p:cNvPicPr/>
            <p:nvPr/>
          </p:nvPicPr>
          <p:blipFill>
            <a:blip r:embed="rId1"/>
            <a:stretch/>
          </p:blipFill>
          <p:spPr>
            <a:xfrm>
              <a:off x="1523880" y="2394000"/>
              <a:ext cx="5850000" cy="4387680"/>
            </a:xfrm>
            <a:prstGeom prst="rect">
              <a:avLst/>
            </a:prstGeom>
            <a:ln w="9360">
              <a:solidFill>
                <a:srgbClr val="003366"/>
              </a:solidFill>
              <a:miter/>
            </a:ln>
          </p:spPr>
        </p:pic>
        <p:sp>
          <p:nvSpPr>
            <p:cNvPr id="197" name="AutoShape 3"/>
            <p:cNvSpPr/>
            <p:nvPr/>
          </p:nvSpPr>
          <p:spPr>
            <a:xfrm flipV="1" rot="10800000">
              <a:off x="990360" y="3276720"/>
              <a:ext cx="1447560" cy="761760"/>
            </a:xfrm>
            <a:prstGeom prst="leftArrow">
              <a:avLst>
                <a:gd name="adj1" fmla="val 50000"/>
                <a:gd name="adj2" fmla="val 47507"/>
              </a:avLst>
            </a:prstGeom>
            <a:solidFill>
              <a:srgbClr val="ff6600"/>
            </a:solidFill>
            <a:ln w="57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Registering for Wikispaces &amp; Creating Your Spa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Accessing the free Plus features for educato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plying to a Discussion Topic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99" name="Group 6"/>
          <p:cNvGrpSpPr/>
          <p:nvPr/>
        </p:nvGrpSpPr>
        <p:grpSpPr>
          <a:xfrm>
            <a:off x="1523880" y="2362320"/>
            <a:ext cx="6172200" cy="4387680"/>
            <a:chOff x="1523880" y="2362320"/>
            <a:chExt cx="6172200" cy="4387680"/>
          </a:xfrm>
        </p:grpSpPr>
        <p:pic>
          <p:nvPicPr>
            <p:cNvPr id="200" name="Picture 3" descr=""/>
            <p:cNvPicPr/>
            <p:nvPr/>
          </p:nvPicPr>
          <p:blipFill>
            <a:blip r:embed="rId1"/>
            <a:stretch/>
          </p:blipFill>
          <p:spPr>
            <a:xfrm>
              <a:off x="1523880" y="2362320"/>
              <a:ext cx="5850000" cy="4387680"/>
            </a:xfrm>
            <a:prstGeom prst="rect">
              <a:avLst/>
            </a:prstGeom>
            <a:ln w="9360">
              <a:solidFill>
                <a:srgbClr val="003366"/>
              </a:solidFill>
              <a:miter/>
            </a:ln>
          </p:spPr>
        </p:pic>
        <p:sp>
          <p:nvSpPr>
            <p:cNvPr id="201" name="AutoShape 5"/>
            <p:cNvSpPr/>
            <p:nvPr/>
          </p:nvSpPr>
          <p:spPr>
            <a:xfrm>
              <a:off x="6248520" y="4495680"/>
              <a:ext cx="1447560" cy="762120"/>
            </a:xfrm>
            <a:prstGeom prst="leftArrow">
              <a:avLst>
                <a:gd name="adj1" fmla="val 50000"/>
                <a:gd name="adj2" fmla="val 47485"/>
              </a:avLst>
            </a:prstGeom>
            <a:solidFill>
              <a:srgbClr val="ff6600"/>
            </a:solidFill>
            <a:ln w="57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Managing Your Wik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ustomize the look, feel, and performance of your wik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ding Pag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64486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add a new page to your wiki, click on the New Page link located above your navigation menu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itle your new pag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06" name="Object 5"/>
          <p:cNvGraphicFramePr/>
          <p:nvPr/>
        </p:nvGraphicFramePr>
        <p:xfrm>
          <a:off x="6629400" y="3581280"/>
          <a:ext cx="1603440" cy="31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9400" y="3581280"/>
                    <a:ext cx="1603440" cy="31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Line 6"/>
          <p:cNvSpPr/>
          <p:nvPr/>
        </p:nvSpPr>
        <p:spPr>
          <a:xfrm>
            <a:off x="4572000" y="3276720"/>
            <a:ext cx="2209680" cy="53316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09" name="Object 7"/>
          <p:cNvGraphicFramePr/>
          <p:nvPr/>
        </p:nvGraphicFramePr>
        <p:xfrm>
          <a:off x="1295280" y="4343400"/>
          <a:ext cx="3657600" cy="229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0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4343400"/>
                    <a:ext cx="3657600" cy="2295360"/>
                  </a:xfrm>
                  <a:prstGeom prst="rect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racking Changes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3276360" y="2361960"/>
            <a:ext cx="5715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track page edits and discussions, click on the Recent Changes link located above your navigation menu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can view page edits as well as new discussion messag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can elect to be notified every time a change is made to your wiki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13" name="Object 4"/>
          <p:cNvGraphicFramePr/>
          <p:nvPr/>
        </p:nvGraphicFramePr>
        <p:xfrm>
          <a:off x="990720" y="2438280"/>
          <a:ext cx="1603080" cy="31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438280"/>
                    <a:ext cx="1603080" cy="31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Line 5"/>
          <p:cNvSpPr/>
          <p:nvPr/>
        </p:nvSpPr>
        <p:spPr>
          <a:xfrm flipH="1" flipV="1">
            <a:off x="2437920" y="2895480"/>
            <a:ext cx="1219320" cy="60984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e Notified of Chang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286000"/>
            <a:ext cx="419256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You can elect to be notified of page edits and discussion messages as they occur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Click on the Notify Me tab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lect if you want to monitor the entire space or just a single pag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lect if you want to be notified of page edits, new discussion messages, or bot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lect if you want to be notified via e-mail or RSS subscrip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18" name="Object 1"/>
          <p:cNvGraphicFramePr/>
          <p:nvPr/>
        </p:nvGraphicFramePr>
        <p:xfrm>
          <a:off x="4645080" y="2438280"/>
          <a:ext cx="40417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5080" y="2438280"/>
                    <a:ext cx="4041720" cy="4267440"/>
                  </a:xfrm>
                  <a:prstGeom prst="rect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anage Your Wiki’s Preferenc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6154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 the wiki site organizer, you can manage all of the following from the Manage Space link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ame, description, copyright licen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ook and feel (colors, templat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embers and permiss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ubscrip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22" name="Object 4"/>
          <p:cNvGraphicFramePr/>
          <p:nvPr/>
        </p:nvGraphicFramePr>
        <p:xfrm>
          <a:off x="7391520" y="2438280"/>
          <a:ext cx="1603080" cy="31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91520" y="2438280"/>
                    <a:ext cx="1603080" cy="31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Line 5"/>
          <p:cNvSpPr/>
          <p:nvPr/>
        </p:nvSpPr>
        <p:spPr>
          <a:xfrm flipV="1">
            <a:off x="4572000" y="3124080"/>
            <a:ext cx="2971800" cy="45720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anage Your Wiki’s Preferenc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6" name="Object 3"/>
          <p:cNvGraphicFramePr/>
          <p:nvPr/>
        </p:nvGraphicFramePr>
        <p:xfrm>
          <a:off x="1600200" y="2362320"/>
          <a:ext cx="5486400" cy="427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362320"/>
                    <a:ext cx="5486400" cy="4279680"/>
                  </a:xfrm>
                  <a:prstGeom prst="rect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ook and Feel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9" name="Object 3"/>
          <p:cNvGraphicFramePr/>
          <p:nvPr/>
        </p:nvGraphicFramePr>
        <p:xfrm>
          <a:off x="1219320" y="2362320"/>
          <a:ext cx="6324480" cy="44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362320"/>
                    <a:ext cx="6324480" cy="4400280"/>
                  </a:xfrm>
                  <a:prstGeom prst="rect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bscrip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2" name="Object 3"/>
          <p:cNvGraphicFramePr/>
          <p:nvPr/>
        </p:nvGraphicFramePr>
        <p:xfrm>
          <a:off x="1828800" y="2362320"/>
          <a:ext cx="4753080" cy="446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362320"/>
                    <a:ext cx="4753080" cy="4465440"/>
                  </a:xfrm>
                  <a:prstGeom prst="rect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vite People to Your Wik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5" name="Object 3"/>
          <p:cNvGraphicFramePr/>
          <p:nvPr/>
        </p:nvGraphicFramePr>
        <p:xfrm>
          <a:off x="1371600" y="2438280"/>
          <a:ext cx="6541920" cy="419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438280"/>
                    <a:ext cx="6541920" cy="4195800"/>
                  </a:xfrm>
                  <a:prstGeom prst="rect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3805920" y="300600"/>
            <a:ext cx="5493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Registering &amp; Creating Your First Wikispac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09480" y="1142640"/>
            <a:ext cx="3200400" cy="8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You may already completed this ste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560" y="2362320"/>
            <a:ext cx="3276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You can have multiple wiki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You can develop them for professional learning communities, each class period, after school groups, your quilting club, etc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3" name="Object 1024"/>
          <p:cNvGraphicFramePr/>
          <p:nvPr/>
        </p:nvGraphicFramePr>
        <p:xfrm>
          <a:off x="3657600" y="1523880"/>
          <a:ext cx="5257800" cy="483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1523880"/>
                    <a:ext cx="5257800" cy="4834080"/>
                  </a:xfrm>
                  <a:prstGeom prst="rect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5" name="Rectangle 7"/>
          <p:cNvSpPr/>
          <p:nvPr/>
        </p:nvSpPr>
        <p:spPr>
          <a:xfrm>
            <a:off x="762120" y="64612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ttp://www.wikispaces.co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aximize Your Wiki Experien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kispaces Tips and Tricks –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ttp://www.wikispaces.com/wikitip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kispaces Help –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ttp://www.wikispaces.com/help+index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kispaces Tours –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ttp://www.wikispaces.com/site/tour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reating / Registering Educational Wikis –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ttp://www.wikispaces.com/help+teacher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gistering for Wikispaces &amp; Creating Your Spa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kispaces in Educ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kispaces is offering its Plus account to for FREE ($50/year value) for all educational wik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Plus account offers the following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 advertis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nhanced privacy featur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creased storage spa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ttp://www.wikispaces.com/content/for/teach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reating a Free Educational Wik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ke sure you are signed into Wikispa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o to: http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//www.wikispaces.com/content/for/teach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 already have a wiki. Can I upgrade it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Yes. Click 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Manage Wiki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 then 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ubscription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 Under 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omplimentary upgrades for educators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 click 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Request your free K-12 plan wiki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gistering Students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s there an easy way to create accounts for all of my students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66"/>
                </a:solidFill>
                <a:latin typeface="Arial"/>
              </a:rPr>
              <a:t>Sure - if you don't want your students to have to create accounts themselves, just email </a:t>
            </a:r>
            <a:r>
              <a:rPr b="0" lang="en-US" sz="1900" spc="-1" strike="noStrike">
                <a:solidFill>
                  <a:srgbClr val="0000ff"/>
                </a:solidFill>
                <a:latin typeface="Arial"/>
              </a:rPr>
              <a:t>help@wikispaces.com</a:t>
            </a:r>
            <a:r>
              <a:rPr b="0" lang="en-US" sz="1900" spc="-1" strike="noStrike">
                <a:solidFill>
                  <a:srgbClr val="003366"/>
                </a:solidFill>
                <a:latin typeface="Arial"/>
              </a:rPr>
              <a:t> with a list of usernames, email addresses (if you have them - if you don't just leave them out – its not a requirement to start the wikispace account), and passwords in the following format and we'll create the accounts for you. You can make the passwords unique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lvl="2" marL="1017000" indent="-203400">
              <a:lnSpc>
                <a:spcPct val="80000"/>
              </a:lnSpc>
              <a:spcBef>
                <a:spcPts val="42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user1,email1@address.com,password1</a:t>
            </a:r>
            <a:r>
              <a:rPr b="0" lang="en-US" sz="1700" spc="-1" strike="noStrike">
                <a:solidFill>
                  <a:srgbClr val="003366"/>
                </a:solidFill>
                <a:latin typeface="Arial Unicode MS"/>
              </a:rPr>
              <a:t> 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ength of Usernames and Passwo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66"/>
                </a:solidFill>
                <a:latin typeface="Arial"/>
              </a:rPr>
              <a:t>Please make sure that usernames are at least 3 characters long (we allow letters, numbers, underscores _, or dashes -) and that passwords are at least 6 characters long.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ich Space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66"/>
                </a:solidFill>
                <a:latin typeface="Arial"/>
              </a:rPr>
              <a:t>Finally, make sure to let us know which wikispace we should add them to as members.</a:t>
            </a:r>
            <a:br>
              <a:rPr sz="1900"/>
            </a:br>
            <a:r>
              <a:rPr b="0" lang="en-US" sz="19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ecurity Setting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ikispaces has different permissions settings for your spa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ublic: Anyone can view or edit your Wikispa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otected: Anyone can view your space but only members can edi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ivate: Only members can view or edit your spa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ign In To Wikispac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25" name="Group 1030"/>
          <p:cNvGrpSpPr/>
          <p:nvPr/>
        </p:nvGrpSpPr>
        <p:grpSpPr>
          <a:xfrm>
            <a:off x="1828800" y="2286000"/>
            <a:ext cx="6629400" cy="4492800"/>
            <a:chOff x="1828800" y="2286000"/>
            <a:chExt cx="6629400" cy="4492800"/>
          </a:xfrm>
        </p:grpSpPr>
        <p:pic>
          <p:nvPicPr>
            <p:cNvPr id="126" name="Picture 1028" descr=""/>
            <p:cNvPicPr/>
            <p:nvPr/>
          </p:nvPicPr>
          <p:blipFill>
            <a:blip r:embed="rId1"/>
            <a:stretch/>
          </p:blipFill>
          <p:spPr>
            <a:xfrm>
              <a:off x="1828800" y="2419200"/>
              <a:ext cx="5813280" cy="4359600"/>
            </a:xfrm>
            <a:prstGeom prst="rect">
              <a:avLst/>
            </a:prstGeom>
            <a:ln w="9360">
              <a:solidFill>
                <a:srgbClr val="003366"/>
              </a:solidFill>
              <a:miter/>
            </a:ln>
          </p:spPr>
        </p:pic>
        <p:sp>
          <p:nvSpPr>
            <p:cNvPr id="127" name="AutoShape 1029"/>
            <p:cNvSpPr/>
            <p:nvPr/>
          </p:nvSpPr>
          <p:spPr>
            <a:xfrm>
              <a:off x="7010280" y="2286000"/>
              <a:ext cx="1447920" cy="762120"/>
            </a:xfrm>
            <a:prstGeom prst="leftArrow">
              <a:avLst>
                <a:gd name="adj1" fmla="val 50000"/>
                <a:gd name="adj2" fmla="val 47496"/>
              </a:avLst>
            </a:prstGeom>
            <a:solidFill>
              <a:srgbClr val="ff6600"/>
            </a:solidFill>
            <a:ln w="57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7T11:53:01Z</dcterms:created>
  <dc:creator>JDORMAN</dc:creator>
  <dc:description/>
  <dc:language>en-US</dc:language>
  <cp:lastModifiedBy>CCPS</cp:lastModifiedBy>
  <dcterms:modified xsi:type="dcterms:W3CDTF">2011-07-29T05:33:49Z</dcterms:modified>
  <cp:revision>100</cp:revision>
  <dc:subject/>
  <dc:title>Navigating Wikispaces</dc:title>
</cp:coreProperties>
</file>